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C07-1484-4C2D-9B47-7F210798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6DE-6CE0-4F2A-B2EF-0115A3E0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D37-CA5F-47A3-B7F9-1A892C33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797-D455-44E7-8153-1A4A9B1E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3E89-3D7D-4A80-B750-8F3B1457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DBAF-B1D6-4127-83F4-26CDADA0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1AD8-C0B6-440E-B70D-11724779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94DA-2B65-440E-BD9E-A5820338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8126-4107-4AB1-81B2-BA6098DD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8BD7-E1A9-402C-B25F-689A0131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8AF9-3995-4DD6-9933-56253036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350-140B-49D3-8620-1BE55551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137A-817E-4BBE-8EB4-4D44B7BC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13EA-3285-4330-88EE-A362F46A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8172-F792-4F1D-8C5D-8606FE83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79DE-790D-4C07-8E98-57926285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55D9-9685-41D4-95FA-1A4EB9A2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1B26-59E7-4EC1-B509-7BA5C86D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BFC-F670-4FC6-949A-18E6CFF0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536-0D71-469D-871E-C79911FB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C26-314F-40BD-B74C-80F686B8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AE8-BBC2-4C50-9D99-CE686D90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470-6C3F-4A32-8C9A-C04BDB9C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19B-BFB9-472E-84E1-F7195577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0445-FFC8-483A-92DF-D5BDC7D9540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6794-AACD-42BC-B6B7-DB687D59368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33600" y="-166680"/>
            <a:ext cx="60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0305" descr=""/>
          <p:cNvPicPr/>
          <p:nvPr/>
        </p:nvPicPr>
        <p:blipFill>
          <a:blip r:embed="rId1"/>
          <a:stretch/>
        </p:blipFill>
        <p:spPr>
          <a:xfrm>
            <a:off x="3998880" y="50760"/>
            <a:ext cx="5005440" cy="666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2760" y="1052640"/>
            <a:ext cx="30016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 Х.Битструпу, 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сихология лич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оотношение генетического и социального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анализ З.Фрейда, «конституционная психология» Э.Кречм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социализации, теория научения (Э.Торндайк, Б.Скиннер и др.), теория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Ж.Пиаже, психодинамические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Биосоциальный подход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логические предпосылки (тип нервной системы, половые особенности, задатки и т.п.) определяют некоторую предрасположенность к чему-либо, однако социальная среда оказывает важное влияние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л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933720"/>
            <a:ext cx="2160720" cy="24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581360"/>
            <a:ext cx="3024000" cy="11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400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797360"/>
            <a:ext cx="237636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Генетическое   и   Социальное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421000"/>
          <a:ext cx="8223480" cy="4317840"/>
        </p:xfrm>
        <a:graphic>
          <a:graphicData uri="http://schemas.openxmlformats.org/drawingml/2006/table">
            <a:tbl>
              <a:tblPr/>
              <a:tblGrid>
                <a:gridCol w="3600720"/>
                <a:gridCol w="4622760"/>
              </a:tblGrid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мо-физиологические особенности индивидуума лежащие в основе развития способностей, потенциал индиви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ая реализация потенциала (задатков), динамическое понятие обозначающее индивидуально-психологические особенности проявляющиеся в успешности выполнения какой либо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оказателей характеризующих динамические особенности психической деятельности индиви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ь устойчивых индивидуальных особенностей человека обуславливающих типичные способы поведение в определенных жизненных ситуациях и выражающих отношение человека к миру и к самому себ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Феномен человек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3573000"/>
            <a:ext cx="7726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атегория принадлежности к человеческому р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зультат включения в пространство межиндивидуальных связей и может пониматься как относительно устойчивая совокупность психических свой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вторимость, уникальность свойств человека, сочетание всех свойств человека как индивида и как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4160" y="2565360"/>
            <a:ext cx="6014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умом рождаются, Личностью становя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альность отстаивают. (В.П.Зинченк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акономерност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 развития лежит вне на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а ближайшего разви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Л.С.Выгот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зитивные пери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личнос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Л.Рубинштейн, К.К.Платон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 и зад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мент и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психических процессов и состоя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й опыт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5:54:02Z</dcterms:created>
  <dc:creator>Александр</dc:creator>
  <dc:description/>
  <dc:language>en-US</dc:language>
  <cp:lastModifiedBy>юлий</cp:lastModifiedBy>
  <dcterms:modified xsi:type="dcterms:W3CDTF">2009-11-17T11:37:34Z</dcterms:modified>
  <cp:revision>7</cp:revision>
  <dc:subject/>
  <dc:title>Психология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10000000000010250600207f5200358026400</vt:lpwstr>
  </property>
</Properties>
</file>